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EF7A-2EE9-47D6-83F7-8DF7E4AC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4C17-DA64-4B0A-BE84-7381FDCA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226-2066-4564-A37E-675C7DC6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B9F-6560-49A8-8AC1-E04D489A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900-1FF8-4930-8514-CCA3E372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CF2-7477-4E91-8172-71D29960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512-1F4F-44D4-9A1B-479A26A7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687-B52D-478F-A19B-49E5CB04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6C2-A795-40F0-954D-7D88810F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54D-3918-4D4A-B8B4-845D186A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949-94E5-4C92-9664-799BABFF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244-EAB5-4F97-89D5-F1E2CB83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E98-E0A4-4886-820D-A75986C0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B00-232B-4C30-8ADF-4807948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AABC-C42C-4FCB-8F96-C675DAFE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76320" y="4191120"/>
            <a:ext cx="167616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86728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42900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nombre es Fariha. Yo vivo New York. Yo tengo catorce años. Yo tengo el hermano. Yo soy muy bie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648000" cy="938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943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 nada! Yo estoy también bien! Cómo están sus vecinos? Cuándo quieres comer en el restaurante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124080"/>
            <a:ext cx="62485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! Gracias! Y tu? Mi hermano está bien. Pero, el está molesto. Mi mamá está enferma. Ella está en el hospita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escuela es aburrida, pero, mis profesores son buen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2514600"/>
            <a:ext cx="4800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Cómo estás? Cómo está tu hermano? Y tu mamá? Cómo es la escuela?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495680"/>
            <a:ext cx="60199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s vecinos están buenos. Si, yo quiero comer en el restaurante, pero puede venir mi hermana. Ella es boni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que venir mañana. Cuántas personas están llegando?  Dónde están tu y sus hermanos ahor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9" descr="Photo on 2011-10-21 at 13.39 #2.jpg"/>
          <p:cNvPicPr/>
          <p:nvPr/>
        </p:nvPicPr>
        <p:blipFill>
          <a:blip r:embed="rId10"/>
          <a:stretch/>
        </p:blipFill>
        <p:spPr>
          <a:xfrm>
            <a:off x="2041560" y="4572000"/>
            <a:ext cx="536400" cy="78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4" descr="Photo on 2011-10-21 at 13.39 #2.jpg"/>
          <p:cNvPicPr/>
          <p:nvPr/>
        </p:nvPicPr>
        <p:blipFill>
          <a:blip r:embed="rId11"/>
          <a:stretch/>
        </p:blipFill>
        <p:spPr>
          <a:xfrm>
            <a:off x="2041560" y="5943600"/>
            <a:ext cx="536400" cy="781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7"/>
          <p:cNvSpPr/>
          <p:nvPr/>
        </p:nvSpPr>
        <p:spPr>
          <a:xfrm>
            <a:off x="2895480" y="5257800"/>
            <a:ext cx="57913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ólo me. Nosotros somos en casa ahora. Tu eres bonita. Tienes mi pein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Cuándo tu regreses mi peine? Cómo puedo buscar?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2819520" y="5943600"/>
            <a:ext cx="579096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!!! Tengo tu peine. Yo es estudio. Tu buscas bonito. ADIO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4:12Z</dcterms:modified>
  <cp:revision>118</cp:revision>
  <dc:subject/>
  <dc:title>Profile</dc:title>
</cp:coreProperties>
</file>